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352-A93E-421B-9C6F-6075A3B0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470-9120-4C68-885C-B3041B98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A1E-C208-4341-85F2-ED12CA2D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681-B2F2-4E4C-8546-69E9A584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9C61-6D42-4C01-947D-9C022BAA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9EA5-2839-4E9B-9AE0-020B333B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5A43-FBBB-408A-8A71-B175C95A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9654-3FCB-4AE4-8AD1-FEBFD07D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B06D-E0CE-46B1-B6DD-BCEC2957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0460-061E-43A1-8141-02077D7E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FAEB-8982-4377-B20F-89146828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6E5-5DBD-4AF8-A902-B6DAD6A1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1945-57A6-4156-B3A3-1775D638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A09C-5865-42C9-8770-68E30037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8A45-095F-451E-8872-DDBEAD67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2079-023B-451F-B3EA-83C9C80A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5482-54E2-458D-AB15-EE37A9EB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005-BFA8-4190-AB7C-24566FB4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BD6-339B-4BA8-AFE7-68088253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ABC-69CB-44CE-BBB3-2420F48D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E6E-03EB-495E-AA7C-208C6355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A9B-FD91-4D44-94C5-C9605D2F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90A-D01F-424C-B039-BBA218A7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B5D-9CD8-467E-8542-478D4A28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33520" y="1828800"/>
            <a:ext cx="8075520" cy="4343400"/>
          </a:xfrm>
          <a:prstGeom prst="rect">
            <a:avLst/>
          </a:prstGeom>
          <a:solidFill>
            <a:srgbClr val="fdfc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" name="Picture 4" descr="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2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4"/>
            <p:cNvPicPr/>
            <p:nvPr/>
          </p:nvPicPr>
          <p:blipFill>
            <a:blip r:embed="rId5"/>
            <a:stretch/>
          </p:blipFill>
          <p:spPr>
            <a:xfrm>
              <a:off x="8101080" y="579132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3"/>
            <p:cNvPicPr/>
            <p:nvPr/>
          </p:nvPicPr>
          <p:blipFill>
            <a:blip r:embed="rId6"/>
            <a:stretch/>
          </p:blipFill>
          <p:spPr>
            <a:xfrm>
              <a:off x="0" y="5791320"/>
              <a:ext cx="104292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" name="Picture 8" descr="ti"/>
          <p:cNvPicPr/>
          <p:nvPr/>
        </p:nvPicPr>
        <p:blipFill>
          <a:blip r:embed="rId7"/>
          <a:stretch/>
        </p:blipFill>
        <p:spPr>
          <a:xfrm>
            <a:off x="1066680" y="1219320"/>
            <a:ext cx="7010640" cy="8744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EB32-B8C9-4E0D-9F29-491E47FE5C7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34960" y="1752480"/>
            <a:ext cx="8075520" cy="4343400"/>
          </a:xfrm>
          <a:prstGeom prst="rect">
            <a:avLst/>
          </a:prstGeom>
          <a:solidFill>
            <a:srgbClr val="fdfc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Picture 4" descr="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2"/>
            <p:cNvPicPr/>
            <p:nvPr/>
          </p:nvPicPr>
          <p:blipFill>
            <a:blip r:embed="rId4"/>
            <a:stretch/>
          </p:blipFill>
          <p:spPr>
            <a:xfrm>
              <a:off x="8026560" y="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" descr="4"/>
            <p:cNvPicPr/>
            <p:nvPr/>
          </p:nvPicPr>
          <p:blipFill>
            <a:blip r:embed="rId5"/>
            <a:stretch/>
          </p:blipFill>
          <p:spPr>
            <a:xfrm>
              <a:off x="8026560" y="571500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3"/>
            <p:cNvPicPr/>
            <p:nvPr/>
          </p:nvPicPr>
          <p:blipFill>
            <a:blip r:embed="rId6"/>
            <a:stretch/>
          </p:blipFill>
          <p:spPr>
            <a:xfrm>
              <a:off x="0" y="5638680"/>
              <a:ext cx="11923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Picture 8" descr="ti"/>
          <p:cNvPicPr/>
          <p:nvPr/>
        </p:nvPicPr>
        <p:blipFill>
          <a:blip r:embed="rId7"/>
          <a:stretch/>
        </p:blipFill>
        <p:spPr>
          <a:xfrm>
            <a:off x="762120" y="2743200"/>
            <a:ext cx="7696080" cy="1020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33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EEA5-3567-4037-9ACF-5CF0173456ED}" type="slidenum">
              <a:rPr b="0" lang="en-US" sz="1200" spc="-1" strike="noStrike">
                <a:solidFill>
                  <a:srgbClr val="666633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kkang@lignex1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맑은 고딕"/>
                <a:ea typeface="맑은 고딕"/>
              </a:rPr>
              <a:t>LIG</a:t>
            </a:r>
            <a:r>
              <a:rPr b="1" lang="ko-KR" sz="3600" spc="-1" strike="noStrike">
                <a:solidFill>
                  <a:srgbClr val="336600"/>
                </a:solidFill>
                <a:latin typeface="맑은 고딕"/>
                <a:ea typeface="맑은 고딕"/>
              </a:rPr>
              <a:t>넥스원 채용설명회 및 채용면담</a:t>
            </a:r>
            <a:endParaRPr b="0" lang="en-US" sz="36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214308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LIG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넥스원의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2008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년 하반기 신입사원 공채와 관련하여 채용설명회 및 채용면담 일정을 아래와 같이 안내하오니 관심있는 학생분들의 많은 참석 바랍니다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채용면담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2008. 10. 15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수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~ 10. 16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목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10:00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~ 17:00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채용설명회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2008. 10. 16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목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16:00 ~ 17:30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장  소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해림홀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정보통신공학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B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동 공동강의실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모집분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연구개발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R&amp;D)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품질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생산기술 등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전공분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전자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컴퓨터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기계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산업공학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문  의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서울 송지혜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2-2033-0573 / jhsongc@lignex1.com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          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용인 강준구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31-288-9186 /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맑은 고딕"/>
                <a:ea typeface="맑은 고딕"/>
                <a:hlinkClick r:id="rId1"/>
              </a:rPr>
              <a:t>jkkang@lignex1.com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          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구미 박기철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54-469-8158 / kcpark@lignex1.com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04:55:39Z</dcterms:created>
  <dc:creator>MAT</dc:creator>
  <dc:description/>
  <dc:language>en-US</dc:language>
  <cp:lastModifiedBy>김수연</cp:lastModifiedBy>
  <cp:lastPrinted>1999-10-01T05:06:01Z</cp:lastPrinted>
  <dcterms:modified xsi:type="dcterms:W3CDTF">2008-10-01T01:55:19Z</dcterms:modified>
  <cp:revision>139</cp:revision>
  <dc:subject/>
  <dc:title>슬라이드 제목 없음</dc:title>
</cp:coreProperties>
</file>