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CCAA-33E1-4D04-AF8D-9DBA41469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2341-9CD6-40A4-A05D-758039CF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15B0-E026-45AC-9F47-0B5A73778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D910-8176-4DEF-BAD5-8603FF1B0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803F-7160-4DF3-876D-5E18D2E17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371A-1213-43CD-AB53-CBE195011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7860-F101-467A-B00F-C17BA00D1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4F18-D30E-495A-8D1E-07512FD2D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B806-7FB2-4A11-B90D-25C53DD14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0C98-15B1-481D-A974-3C191C51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3C59-5079-479C-A8A9-03E74049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D231-BCC1-4D31-B14B-55761A6A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04B3C-FAB2-4DE7-9051-F0DBF6F76B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81a181"/>
              </a:gs>
              <a:gs pos="50000">
                <a:srgbClr val="ccffcc"/>
              </a:gs>
              <a:gs pos="100000">
                <a:srgbClr val="81a18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1230" b="2584"/>
          <a:stretch/>
        </p:blipFill>
        <p:spPr>
          <a:xfrm>
            <a:off x="1371600" y="2057400"/>
            <a:ext cx="6019920" cy="2225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38080" y="4876920"/>
            <a:ext cx="3657600" cy="1539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üsseldorf, Ger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9-11 September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hairs:  Prof. Helmut Rit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f. Kurt Gecke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304920"/>
            <a:ext cx="5954760" cy="1647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4th IUPAC International Symposium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cc3300"/>
                </a:solidFill>
                <a:latin typeface="Arial"/>
              </a:rPr>
              <a:t>M</a:t>
            </a: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acro- and Supramolecular </a:t>
            </a:r>
            <a:r>
              <a:rPr b="1" lang="de-DE" sz="2600" spc="-1" strike="noStrike">
                <a:solidFill>
                  <a:srgbClr val="cc3300"/>
                </a:solidFill>
                <a:latin typeface="Arial"/>
              </a:rPr>
              <a:t>A</a:t>
            </a: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rchitectures 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cc3300"/>
                </a:solidFill>
                <a:latin typeface="Arial"/>
              </a:rPr>
              <a:t>M</a:t>
            </a: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ateria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410080" y="762120"/>
            <a:ext cx="3429000" cy="109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600" spc="-1" strike="noStrike">
                <a:solidFill>
                  <a:srgbClr val="cc3300"/>
                </a:solidFill>
                <a:latin typeface="Arial"/>
              </a:rPr>
              <a:t>MAM-0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81480" y="4319640"/>
            <a:ext cx="3657600" cy="34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Symposium Secretaria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Prof. Dr. H. Rit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Institute of Organic Chemistry and Macromolecular Chemistr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Universitätsstrass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D-40225 Düsseldor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Tel.: +49 211 811 47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Fax: +49 211 811 47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E-mail: mam08@uni-dueseeldorf.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http://www. uni-duesseldorf.de/MAM-0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1887480" y="-120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00:29:34Z</dcterms:created>
  <dc:creator>Prof. K.E. Geckeler</dc:creator>
  <dc:description/>
  <dc:language>en-US</dc:language>
  <cp:lastModifiedBy>Prof. K.E. Geckeler</cp:lastModifiedBy>
  <dcterms:modified xsi:type="dcterms:W3CDTF">2007-04-12T03:34:00Z</dcterms:modified>
  <cp:revision>5</cp:revision>
  <dc:subject/>
  <dc:title>PowerPoint Presentation</dc:title>
</cp:coreProperties>
</file>