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6647-AE2D-44A5-B912-2C74420AD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147C-08F0-4E5A-84E8-EB5036416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E639-7EE9-4126-8A7C-B04507992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F812-E1E2-4465-AAFC-6C50C2045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97E8-5FCB-42A2-8011-B3001F34F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F14D-F0AF-4128-BE02-D5D269F10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8D1B-6831-4905-909A-CCE82F55F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6932-8237-4EAE-B951-72DBFA8A1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B453-F25B-422C-ADEF-94C267353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B313-DD0A-4CE0-967A-B56FD4A35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B4BC-6B72-49DA-A559-793443D39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3880-AB88-4674-A93F-4BE50100D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A36F4-07BE-4A53-87BB-D2A4E883C9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81a181"/>
              </a:gs>
              <a:gs pos="50000">
                <a:srgbClr val="ccffcc"/>
              </a:gs>
              <a:gs pos="100000">
                <a:srgbClr val="81a18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0" t="0" r="1230" b="2584"/>
          <a:stretch/>
        </p:blipFill>
        <p:spPr>
          <a:xfrm>
            <a:off x="1371600" y="2057400"/>
            <a:ext cx="6019920" cy="2225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38080" y="4876920"/>
            <a:ext cx="3657600" cy="1539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üsseldorf, Germ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9-11 September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hairs:  Prof. Helmut Rit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f. Kurt Gecke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304920"/>
            <a:ext cx="5954760" cy="1647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4th IUPAC International Symposium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cc3300"/>
                </a:solidFill>
                <a:latin typeface="Arial"/>
              </a:rPr>
              <a:t>M</a:t>
            </a: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acro- and Supramolecular </a:t>
            </a:r>
            <a:r>
              <a:rPr b="1" lang="de-DE" sz="2600" spc="-1" strike="noStrike">
                <a:solidFill>
                  <a:srgbClr val="cc3300"/>
                </a:solidFill>
                <a:latin typeface="Arial"/>
              </a:rPr>
              <a:t>A</a:t>
            </a: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rchitectures a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cc3300"/>
                </a:solidFill>
                <a:latin typeface="Arial"/>
              </a:rPr>
              <a:t>M</a:t>
            </a: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ateria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410080" y="762120"/>
            <a:ext cx="3429000" cy="109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600" spc="-1" strike="noStrike">
                <a:solidFill>
                  <a:srgbClr val="cc3300"/>
                </a:solidFill>
                <a:latin typeface="Arial"/>
              </a:rPr>
              <a:t>MAM-08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181480" y="4319640"/>
            <a:ext cx="3657600" cy="34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Symposium Secretariat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Prof. Dr. H. Rit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Institute of Organic Chemistry and Macromolecular Chemistr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Universitätsstrass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D-40225 Düsseldor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Tel.: +49 211 811 47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Fax: +49 211 811 47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E-mail: mam08@uni-dueseeldorf.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http://www. uni-duesseldorf.de/MAM-0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-1887480" y="-120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00:29:34Z</dcterms:created>
  <dc:creator>Prof. K.E. Geckeler</dc:creator>
  <dc:description/>
  <dc:language>en-US</dc:language>
  <cp:lastModifiedBy>Prof. K.E. Geckeler</cp:lastModifiedBy>
  <dcterms:modified xsi:type="dcterms:W3CDTF">2007-04-12T03:34:00Z</dcterms:modified>
  <cp:revision>5</cp:revision>
  <dc:subject/>
  <dc:title>PowerPoint Presentation</dc:title>
</cp:coreProperties>
</file>