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495D-F04F-42C4-A4FC-8A4A93500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70B0-9E15-4371-8B8D-8FC1C9BB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3CD4-185A-4133-81C5-F07D482E0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7319-CF8D-40A0-9A73-C3E9B989E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210F-9A28-4367-BD2A-81849F4F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C5B2-16F9-408A-BE75-3D3D605A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FE42-4F28-4949-8A23-80BFA708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A5FC-40B4-4944-9312-414FC05F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3DDD-C980-4D3A-BF67-F55086D2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6243-DE95-49CE-94FE-B309FA49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C8B9-7B4F-4286-A437-CC636336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8A9A-E8AF-46FC-972D-F4C6915A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2946-285E-4639-8A7C-B06E9CB22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1a181"/>
              </a:gs>
              <a:gs pos="50000">
                <a:srgbClr val="ccffcc"/>
              </a:gs>
              <a:gs pos="100000">
                <a:srgbClr val="81a1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1230" b="2584"/>
          <a:stretch/>
        </p:blipFill>
        <p:spPr>
          <a:xfrm>
            <a:off x="1371600" y="2057400"/>
            <a:ext cx="6019920" cy="2225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4876920"/>
            <a:ext cx="3657600" cy="1539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üsseldorf, 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9-11 September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hairs:  Prof. Helmut Ri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f. Kurt Gecke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04920"/>
            <a:ext cx="5954760" cy="1647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4th IUPAC International Symposium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cc3300"/>
                </a:solidFill>
                <a:latin typeface="Arial"/>
              </a:rPr>
              <a:t>M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acro- and Supramolecular </a:t>
            </a:r>
            <a:r>
              <a:rPr b="1" lang="de-DE" sz="26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rchitectures 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cc3300"/>
                </a:solidFill>
                <a:latin typeface="Arial"/>
              </a:rPr>
              <a:t>M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ateria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10080" y="762120"/>
            <a:ext cx="3429000" cy="109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600" spc="-1" strike="noStrike">
                <a:solidFill>
                  <a:srgbClr val="cc3300"/>
                </a:solidFill>
                <a:latin typeface="Arial"/>
              </a:rPr>
              <a:t>MAM-0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81480" y="4319640"/>
            <a:ext cx="3657600" cy="34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Symposium Secretaria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rof. Dr. H. Ri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Institute of Organic Chemistry and Macromolecular Chemist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Universitätsstrass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D-40225 Düsseldor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Tel.: +49 211 811 47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Fax: +49 211 811 47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E-mail: mam08@uni-dueseeldorf.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http://www. uni-duesseldorf.de/MAM-0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1887480" y="-12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00:29:34Z</dcterms:created>
  <dc:creator>Prof. K.E. Geckeler</dc:creator>
  <dc:description/>
  <dc:language>en-US</dc:language>
  <cp:lastModifiedBy>Prof. K.E. Geckeler</cp:lastModifiedBy>
  <dcterms:modified xsi:type="dcterms:W3CDTF">2007-04-12T03:34:00Z</dcterms:modified>
  <cp:revision>5</cp:revision>
  <dc:subject/>
  <dc:title>PowerPoint Presentation</dc:title>
</cp:coreProperties>
</file>