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4DD-FFEC-4494-B6EE-4C8609E9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25D-A081-435B-89EB-E944B84B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E4B-7C9E-48E4-B03F-B3FEBFA6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E58-357E-4B4B-A486-2384D7C7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193A-B358-4430-927C-BD63A0A0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301F-1F02-4456-91F2-77F8E09D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8EE-0B0D-489A-A173-D66CE5A9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AC1-55AF-4D5B-A4FC-D98ED769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72A-6FF7-46B5-9E4B-E3C9FFBD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719-CE34-46AF-88BA-D1F8304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935-5691-4D65-859F-25AA28C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1A2C-79FB-4126-ABF6-A41E7F86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F11-E592-4E0D-A8D4-C93CC3FFA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81a181"/>
              </a:gs>
              <a:gs pos="50000">
                <a:srgbClr val="ccffcc"/>
              </a:gs>
              <a:gs pos="100000">
                <a:srgbClr val="81a1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0" r="1230" b="2584"/>
          <a:stretch/>
        </p:blipFill>
        <p:spPr>
          <a:xfrm>
            <a:off x="1371600" y="2057400"/>
            <a:ext cx="601992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38080" y="4876920"/>
            <a:ext cx="3657600" cy="1539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üsseldorf, 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9-11 Septem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hairs:  Prof. Helmut R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f. Kurt Gecke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04920"/>
            <a:ext cx="5954760" cy="1647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4th IUPAC International Symposium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cro- and Supramolecular </a:t>
            </a: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A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rchitectures 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de-DE" sz="2600" spc="-1" strike="noStrike">
                <a:solidFill>
                  <a:srgbClr val="000000"/>
                </a:solidFill>
                <a:latin typeface="Arial"/>
              </a:rPr>
              <a:t>ateria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10080" y="762120"/>
            <a:ext cx="342900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600" spc="-1" strike="noStrike">
                <a:solidFill>
                  <a:srgbClr val="cc3300"/>
                </a:solidFill>
                <a:latin typeface="Arial"/>
              </a:rPr>
              <a:t>MAM-0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1480" y="4319640"/>
            <a:ext cx="365760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ymposium Secretari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of. Dr. H. R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stitute of Organic Chemistry and Macromolecular Chemist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Universitätsstras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-40225 Düsseldo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el.: +49 211 811 47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ax: +49 211 811 47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-mail: mam08@uni-dueseeldorf.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http://www. uni-duesseldorf.de/MAM-0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-1887480" y="-12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00:29:34Z</dcterms:created>
  <dc:creator>Prof. K.E. Geckeler</dc:creator>
  <dc:description/>
  <dc:language>en-US</dc:language>
  <cp:lastModifiedBy>Prof. K.E. Geckeler</cp:lastModifiedBy>
  <dcterms:modified xsi:type="dcterms:W3CDTF">2007-04-12T03:34:00Z</dcterms:modified>
  <cp:revision>5</cp:revision>
  <dc:subject/>
  <dc:title>PowerPoint Presentation</dc:title>
</cp:coreProperties>
</file>